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669-6939-49FE-9650-685C7805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EB58-FFF5-4354-8199-20020496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1D8-7292-4268-9772-F7183B2B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3C96-7AB1-48A4-AD29-30F1C4A9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3B18-A5E7-48C1-81F6-AB320BC4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6BE1-3151-4D4C-B93C-5ADCAB5E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CD43-926A-4FBE-891A-0044506D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FC12-278C-4333-B715-826AFF7C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5B3C-D645-4ED7-9E80-461E658E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CD75-7E9B-40F7-89E5-CC6B6A6F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01BA-0816-4E4C-80A3-6F17D229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BCC-0408-4CDF-972E-CFB2D0F1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4459-7AD6-427A-A428-7727F3DB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7AD0-F0F1-4F2A-AF18-1DBF84F1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36D5-6D41-419D-AF8F-5AA20CA9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4D83-0B2D-4572-A949-929D1568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5222-3CB6-4BC0-866C-5CD81DE6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06B47-7FE1-434C-91CA-2479105F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3844F-B844-4B89-A125-1C3523EA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F18B2-F913-41EF-A630-22B7A84B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62C51-6B99-4207-8687-78D384D2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5E2F3-F8D5-46DD-B371-389A86EA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C1A-4002-4644-B247-049CA726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FDD57-FCB8-4C10-A66B-EFFB7089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606C4-09AB-4783-B542-E29BACF6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BF224-4099-421C-806A-728DB188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E12B3-880E-4EEA-8035-054987B3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289F0-0F6D-44E9-B17B-DFCA21FC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D83BF-0185-4757-B4CD-137FD723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B37D2-3555-45D4-99B5-5A4353F8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BE782-52B9-49BE-9E88-14C71A8D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C5BC9-4784-4445-8DD1-97197DEC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3FA47-47CC-4CCC-AA3B-62FBE0B8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738-DB59-478F-92D6-58F5D413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530F8-4E99-472A-835C-4EB68C3A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8CAD9-976A-4E60-AFF0-A1C9EF31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DBA12-8515-4151-A944-B911071D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6D648-F6F6-4F83-AFB4-E38F359F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B20AF-7AE6-48EA-A55B-189D9385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9677C-AD43-4671-8AEA-0B29B01A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39A6A-1739-4F5D-9EDB-DB93B334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408A6-0D00-4669-BA3D-F5486F3C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B1ED6-6DD5-4D56-8B1D-43A6C931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29A5E-59DB-4B93-9494-B8C92419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65EB-3406-4A21-BBE2-34B480A4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08D60-C895-4177-AC54-0EEFE1C7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F34E1-571A-48E5-B2E2-DF11DADB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9B3A8-BCC4-473D-9F77-40B880F1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E042A-9F22-4270-B3D5-C0D5C838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E5D1C-BAA5-407B-AEF6-8FB91436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BC264-852A-4368-B760-42A5ED80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332A6-7E1C-41A5-A671-89C29F90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BBC43-7A83-4F1C-B7B9-9377F2F6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CE5A5-F0D7-45BE-B575-2B89B7D6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E31B7-1556-4B63-9398-4E6ADD09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07AB-9B7E-4D70-B8C3-48617708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407AA-034E-4550-BE0D-218A52CF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A8C6C-214F-45B6-BB56-A3A913E1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FA41C-3D05-4306-8EF4-90B185CE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E13B6-E608-4A7B-AA9E-12F1A855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D9785-23C4-4DC3-8C4F-BBF84116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DDE81-616A-4FC0-881F-0A9628BD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3191F-6D44-466F-81BF-FAF01719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A538D-13FE-4499-97BA-A1D3BBEE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56DD4-40A8-486A-B72A-5AF7B314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E700C-D870-490E-B791-DC2D4EC5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140-3DBF-494D-B073-31BD05E5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BC647-DD3F-47DA-91D7-B005FA98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22112-9C1C-4D48-AE70-D75E2B23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57F42-18E5-44B6-B9C1-FCB196B0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86810-B25F-4CFA-BE44-C0942EFD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E8057-95DD-47D3-930E-8651F200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0997E-E4D2-4CB6-B119-8E9BFCD1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A7994-9A93-4754-909C-B83C7E54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20943-1625-4C71-A20F-3CA4E095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7ECEB-342C-47F2-82CD-78EE6521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17698-A804-4D38-8145-BB0D8F7F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6B9-7184-4A51-A00E-2E4EA21C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F9642-B6C5-4E80-86AC-B67BA7BD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AB920-AFD0-42A7-A98A-2DC263A3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67DE7-EB56-4AF2-B29D-BA945CD0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07AC0-DF80-4271-A7B6-4A5E95EF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8028F-4A17-4F45-A0CE-45EE0337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599C-AA72-46DA-A162-0A28E3B7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BA64-55A8-4DD1-AED7-150712D5AA9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8BB3-4B6D-4D4A-88D8-88D32378444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D3E4-B846-40C4-AC94-05E1F3D1CAA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560C-FFB3-4C65-A0C4-3EDD6D3B5C8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225E-B040-46B6-8E45-1C41510B7E0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9FBA-F987-424C-A40B-D7B424440EC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4E5B-CE1F-4265-A057-B27FD727F04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ncave Mirro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bjectiv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Know the three principal rays for a concave mirro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the principal rays to locate the image of an object in front of a concave mirro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rrectly classify images formed by concave mirror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nderstand why different types of images can be formed with a concave mirro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o You Know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 a concave mirror form an image that is not behind the mirror?  What might this image’s characteristics b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will know the answer to this question at the end of this less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ocabula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Concave Mirror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– a mirror that is a spherical surface, silvered on the outside of the spher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Principal Axis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– a horizontal line that passes through the center of the mirror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Focal Point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– the point at which incident parallel light rays cross the principal axis.  The distance from this point to the center of the mirror is called the focal length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ocabula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enter of Curvatu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– the center of the sphere formed by the mirro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he center of curvature is double the focal lengt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Real imag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– an image formed by light rays that intersect.  This type of image can be viewed on a scre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irror Lab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fety Considerations – Keep the laser parallel to the tabletop at all times.  Do not point the laser at anyon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irror Physle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nk to virtual optical ben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nk to concave mirror simul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1:06:12Z</dcterms:created>
  <dc:creator>YCSD</dc:creator>
  <dc:description/>
  <dc:language>en-US</dc:language>
  <cp:lastModifiedBy>Lori Andersen</cp:lastModifiedBy>
  <dcterms:modified xsi:type="dcterms:W3CDTF">2009-10-18T16:58:53Z</dcterms:modified>
  <cp:revision>6</cp:revision>
  <dc:subject/>
  <dc:title>Concave Mirrors</dc:title>
</cp:coreProperties>
</file>